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871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73">
                <a:moveTo>
                  <a:pt x="5" y="0"/>
                </a:moveTo>
                <a:arcTo wR="5" hR="5" stAng="16200000" swAng="-5400000"/>
                <a:lnTo>
                  <a:pt x="0" y="31368"/>
                </a:lnTo>
                <a:arcTo wR="5" hR="5" stAng="10800000" swAng="-5400000"/>
                <a:lnTo>
                  <a:pt x="21595" y="3137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871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373">
                <a:moveTo>
                  <a:pt x="5" y="0"/>
                </a:moveTo>
                <a:arcTo wR="5" hR="5" stAng="16200000" swAng="-5400000"/>
                <a:lnTo>
                  <a:pt x="0" y="31368"/>
                </a:lnTo>
                <a:arcTo wR="5" hR="5" stAng="10800000" swAng="-5400000"/>
                <a:lnTo>
                  <a:pt x="21595" y="3137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2360" cy="3699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690800"/>
            <a:ext cx="54356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3849480" y="9376920"/>
            <a:ext cx="2943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EAB6-EFBA-4620-A7F7-90A0C3657B3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690800"/>
            <a:ext cx="54356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8472E-359A-4927-AF82-CA0B3F0EC09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092F4-A7AB-40BD-B887-7ED8B344020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16F9A-6E21-4DF2-9276-BEC798ECEC86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3B13B-D5CF-4F34-BA57-EAE7D81120B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65761-6A4B-4ACC-BF6F-1C5557B6C835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D2DB3-FA71-47C5-8C65-A233FEC5DD9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B2EFE-23EB-464C-9B33-27F83E128EC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811D0-B43B-438A-8771-2B6D70D63C3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98329-359E-4E85-9553-42984A435682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BB486-015F-4333-8385-6B753E9BDD1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1FA6E-CDCF-4D71-9123-EFD7661F024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FCB71-6250-45A3-9D75-BF3FE71CC78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3D2A-11BC-4816-824F-C2491379E6B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3849840" y="9377280"/>
            <a:ext cx="294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25FE4-6A7A-4A58-B72B-6CFD133C668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68D90-0126-4E5D-AFE4-7BD6A1E66DE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133640" y="739800"/>
            <a:ext cx="4530600" cy="370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79320" y="4689360"/>
            <a:ext cx="543096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01004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64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0" y="106632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200" y="4010040"/>
            <a:ext cx="284508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9218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640" y="401004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640" y="1066320"/>
            <a:ext cx="431172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010040"/>
            <a:ext cx="8836200" cy="26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066320"/>
            <a:ext cx="88362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"/>
          <p:cNvSpPr/>
          <p:nvPr/>
        </p:nvSpPr>
        <p:spPr>
          <a:xfrm>
            <a:off x="152280" y="152280"/>
            <a:ext cx="8839440" cy="609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152280" y="6705720"/>
            <a:ext cx="88394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524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Master-Slav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ýh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96920" y="1014480"/>
            <a:ext cx="88390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oddělení zodpovědno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 – řešení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– rozdělení na podúlohy, zavolání otroků, spočtení celkového výsledk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snadná zaměnitelnost a rozšiřitelnost čá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ůžeme změnit implementaci jedné části (master/slave) bez zásahu do druhé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6633"/>
                </a:solidFill>
                <a:latin typeface="Arial"/>
                <a:ea typeface="Microsoft YaHei"/>
              </a:rPr>
              <a:t>efektiv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aralelní zpracování úloh je typicky rychlejš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111640" y="863640"/>
            <a:ext cx="18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Nevýhody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1920" y="980640"/>
            <a:ext cx="88362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není vhodné pro všechny typy úlo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elze rozdělit na podúlo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emusí se vyplatit rež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závislost na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 H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apř. na počtu j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Probl</a:t>
            </a:r>
            <a:r>
              <a:rPr b="1" lang="cs-CZ" sz="1800" spc="-1" strike="noStrike">
                <a:solidFill>
                  <a:srgbClr val="cc9900"/>
                </a:solidFill>
                <a:latin typeface="Arial"/>
                <a:ea typeface="Microsoft YaHei"/>
              </a:rPr>
              <a:t>émy s implementac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typické problémy 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multi-threadingem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(např. data rac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ůže být těžké převést do nezávislých podúlo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etekce a obsluha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chy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Základní vlastnost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8920" y="1052640"/>
            <a:ext cx="883620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ncip Divide and conquer (rozděl a panuj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roblém rozdělíme na shodné podproblém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=&gt; ty vyřešíme nezávis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z jejich výsledků pak spočítáme celkový výsled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093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Archite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79280" y="907920"/>
            <a:ext cx="883944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(koordinační komponen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e klientovi rozhraní pro zadání 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dělení práce do shodných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dúlohy přidělí otrokům (slave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startuje a řídí výpočet podúloh - často běží paraleln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očte celkový výsledek z výsledků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od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laves (podřízené prvk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hraní pro zadá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rovádí výpočet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5960" indent="-1605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116000" y="4248000"/>
            <a:ext cx="72360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093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Archite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79280" y="83664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81080" indent="-17640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oordinační komponeneta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e klientovi rozhraní pro zadání 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tará se o rozdělení práce do přibližně stejně náročných podúlo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ravuje podřízené komponenty a distribuuje mezi ně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startuje a řídí výpočet v podřízených komponentá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dvodí z výsledku jejich práce konečný výsledek, který obrdrží kli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dřízené prvky (slav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 algn="ctr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skytují kooridnátorovi rozhraní pro zadá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5960" indent="-1605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indent="-17640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95400" y="936720"/>
            <a:ext cx="899928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921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</a:rPr>
              <a:t>Poznámky k implementac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1920" y="980640"/>
            <a:ext cx="88362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budou otroci přistupovat k datům / vracet výsledk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ostanou jako argument / výsledek vrátí jako návratovou hodnot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řistup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zápi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díleného kontejne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rozdělit na podúlo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sloučit výsledk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c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ázet s chybam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Poznámky k implement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25360" y="1052640"/>
            <a:ext cx="8594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lien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j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odstíněn od organizace výpočt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 je zodpovědný pouze za řešení podúloh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rozdělení úloh a spočtení celkového výsledku má na starosti pouze mast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9080" indent="-285840">
              <a:spcBef>
                <a:spcPts val="4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lient ani zpracování podúloh by nemělo záviset na algoritmu pro rozdělení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P</a:t>
            </a: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říkl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ú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počtení součinu mat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základní myšlen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plikujeme princip rozděl a panuj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spočítá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aralelně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1 řádek výsledk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  <a:ea typeface="Microsoft YaHei"/>
              </a:rPr>
              <a:t>https://github.com/VL-CZ/master-slave-design-patt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066680" y="228600"/>
            <a:ext cx="7925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aria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79280" y="981000"/>
            <a:ext cx="883944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paralelní výpočty - nejčastěj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pracují paralelně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master musí počkat na doběhnutí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všech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slav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zvýšení přesnosti výsled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mají různé způsoby implementa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všichni dostanou stejné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 zvýšení odolnosti vůči chybá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otroci mají stejnou implementaci i zadán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mplementace otroků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omocí vlá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0920" indent="-17136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deální je použít např. Thread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mocí procesů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51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80920" indent="-17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 algn="ctr">
              <a:spcBef>
                <a:spcPts val="425"/>
              </a:spcBef>
              <a:tabLst>
                <a:tab algn="l" pos="0"/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C:\Users\Vojta\Pictures\master-slave-accuracy.PNG"/>
          <p:cNvPicPr/>
          <p:nvPr/>
        </p:nvPicPr>
        <p:blipFill>
          <a:blip r:embed="rId1"/>
          <a:stretch/>
        </p:blipFill>
        <p:spPr>
          <a:xfrm>
            <a:off x="4794120" y="1989000"/>
            <a:ext cx="40849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116000" y="210960"/>
            <a:ext cx="7635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V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  <a:ea typeface="Microsoft YaHei"/>
              </a:rPr>
              <a:t>yuži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79280" y="981000"/>
            <a:ext cx="8839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t">
            <a:noAutofit/>
          </a:bodyPr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ásobení 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ždý řáde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výsledku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spočítá jeden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sla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Zpracování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bráz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apř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řevod obrázku na černobílý, neb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 počítání diskrétní kosinové transformac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pracuje s blokem N x N pixelů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6040" indent="-1713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b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ém obchodního cestující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(bez vracení d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po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č. bodu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70c0"/>
                </a:solidFill>
                <a:latin typeface="Arial"/>
                <a:ea typeface="Microsoft YaHei"/>
              </a:rPr>
              <a:t>https://en.wikipedia.org/wiki/Travelling_salesman_probl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36400" indent="-176040">
              <a:lnSpc>
                <a:spcPct val="10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Microsoft YaHei"/>
              </a:rPr>
              <a:t>každý slave může např. začít v jiném vrchol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k Smelík</dc:creator>
  <dc:description/>
  <cp:keywords/>
  <dc:language>en-US</dc:language>
  <cp:lastModifiedBy>Filip Zavoral</cp:lastModifiedBy>
  <dcterms:modified xsi:type="dcterms:W3CDTF">2022-06-25T18:33:24Z</dcterms:modified>
  <cp:revision>3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